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2.wmf" ContentType="image/x-wmf"/>
  <Override PartName="/ppt/media/image19.png" ContentType="image/png"/>
  <Override PartName="/ppt/media/image1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15E-062A-415C-8C28-045106E8C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A160-1D55-4EFA-AFAB-1B0747BD4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5A13-B803-4116-B9FB-BA5EA3240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D17-8024-4C5A-8536-3074BE10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E0B-DCB9-4839-A626-254B3F4A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1D3-216B-47FA-BD68-DABF95AF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2BA-1C5E-4D05-895F-E5B7A25A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CCA7-122A-4B98-A16A-954A4F48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1DE9-DA1E-4CD0-B664-177C541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5D85-CD84-4DA4-802D-FC2C5BB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43E7-05F5-4D01-BD17-14D0376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C760-2091-43D6-90C2-E79786D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7E2C-E1DC-4744-96D7-A0D1DBBD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0F80-216F-4806-ADC7-9B8D7399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988-791D-46BE-8D7C-15FC809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F158-FF9B-4720-A1A8-3D62426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3F49-A889-4BF4-A41B-22542F2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8874-8530-4DA2-B332-785C8125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E8D5-FAAC-4017-864A-24A93533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F46C-140E-49D1-BF97-350CECFA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BDF-79CC-4192-B312-F390C43C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AB78-82C2-4514-9C65-2B17B388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ADF-FC83-4098-8A94-F482EBC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626-F2F2-4EC4-B179-ABCB3CE0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692-83F0-4022-88C3-EF8D767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7AE-7DDD-4764-BA9E-C4A8BD4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1EE-043B-477E-82E8-4CF111F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12A9-9EB9-491E-AC10-1AF412D4D6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7F3-E02F-4D66-B456-AE87FE2A71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360" y="2349360"/>
            <a:ext cx="6400800" cy="1152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Rage Italic"/>
              </a:rPr>
              <a:t>Длина окружности и площадь круг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18920" y="3357360"/>
            <a:ext cx="60483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579"/>
                </a:solidFill>
                <a:latin typeface="Times New Roman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C:\Documents and Settings\Владелец\Мои документы\Мои рисунки\009da6457aad[1].png"/>
          <p:cNvPicPr/>
          <p:nvPr/>
        </p:nvPicPr>
        <p:blipFill>
          <a:blip r:embed="rId1"/>
          <a:stretch/>
        </p:blipFill>
        <p:spPr>
          <a:xfrm>
            <a:off x="7621560" y="1268280"/>
            <a:ext cx="1522440" cy="2997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428760" y="4143240"/>
            <a:ext cx="756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ппова Тамара Рудольфовн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МКОУ «СОШ №28» г. Коркин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071720" y="2000160"/>
            <a:ext cx="7696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πd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   С=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=2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=πR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71640" y="260280"/>
            <a:ext cx="6624720" cy="132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971640" y="40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 А П О М Н И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2000160" y="2357280"/>
            <a:ext cx="4967280" cy="388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276720" y="2421000"/>
            <a:ext cx="3095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236000" y="5734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Picture 11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26067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2214360" cy="3230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572160" y="2857680"/>
            <a:ext cx="1557360" cy="2665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3929040" y="3143160"/>
            <a:ext cx="1650960" cy="23194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4"/>
          <p:cNvSpPr/>
          <p:nvPr/>
        </p:nvSpPr>
        <p:spPr>
          <a:xfrm>
            <a:off x="785880" y="214200"/>
            <a:ext cx="678636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447920" y="1773360"/>
            <a:ext cx="7696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πd</a:t>
            </a: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   С=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=2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=πR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ANTN069"/>
          <p:cNvPicPr/>
          <p:nvPr/>
        </p:nvPicPr>
        <p:blipFill>
          <a:blip r:embed="rId1"/>
          <a:stretch/>
        </p:blipFill>
        <p:spPr>
          <a:xfrm>
            <a:off x="324000" y="2060640"/>
            <a:ext cx="1582560" cy="1466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971640" y="260280"/>
            <a:ext cx="6624720" cy="132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971640" y="40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читай формулы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979640" y="2205000"/>
            <a:ext cx="4967280" cy="388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276720" y="2421000"/>
            <a:ext cx="3095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7236000" y="5734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Picture 4" descr="зевающий"/>
          <p:cNvPicPr/>
          <p:nvPr/>
        </p:nvPicPr>
        <p:blipFill>
          <a:blip r:embed="rId2"/>
          <a:stretch/>
        </p:blipFill>
        <p:spPr>
          <a:xfrm>
            <a:off x="6732720" y="3500280"/>
            <a:ext cx="104112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19928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b200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кружность арены цирка име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длину 40,8 метра. Найдите диаметр 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лощадь аре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4" descr="зевающий"/>
          <p:cNvPicPr/>
          <p:nvPr/>
        </p:nvPicPr>
        <p:blipFill>
          <a:blip r:embed="rId1"/>
          <a:stretch/>
        </p:blipFill>
        <p:spPr>
          <a:xfrm>
            <a:off x="6572160" y="3857760"/>
            <a:ext cx="1041480" cy="2449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857160" y="500040"/>
            <a:ext cx="1855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12"/>
          <p:cNvSpPr/>
          <p:nvPr/>
        </p:nvSpPr>
        <p:spPr>
          <a:xfrm>
            <a:off x="3357720" y="3571920"/>
            <a:ext cx="5184720" cy="2857320"/>
          </a:xfrm>
          <a:prstGeom prst="ellipse">
            <a:avLst/>
          </a:prstGeom>
          <a:solidFill>
            <a:srgbClr val="99ff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071880" y="4143240"/>
            <a:ext cx="4781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айдите диаметр окружности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лина которой равна 9,42 м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6143760" y="2643120"/>
            <a:ext cx="208728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 Black"/>
              </a:rPr>
              <a:t>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≈ 3,1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428760" y="1285920"/>
            <a:ext cx="5184720" cy="292896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йти длину окружности, есл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лина радиуса равна  10 с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14320" y="357120"/>
            <a:ext cx="5786280" cy="928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 задач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1"/>
          <a:stretch/>
        </p:blipFill>
        <p:spPr>
          <a:xfrm>
            <a:off x="357120" y="4143240"/>
            <a:ext cx="14288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73040" y="1714680"/>
            <a:ext cx="6870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200"/>
              </a:solidFill>
              <a:latin typeface="Comic Sans MS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0" y="2714760"/>
            <a:ext cx="1855800" cy="19015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1620720" y="1623240"/>
            <a:ext cx="7027920" cy="2786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73(а). Составить и решить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у по новой теме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йте рисунок к задаче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333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7143840" cy="4071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6760" y="15717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мекай, считай, отгадыва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Пусть победит смекал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Думай, пробуй и ищ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Будет трудно – не пищ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691200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b2579"/>
                </a:solidFill>
                <a:latin typeface="Arial"/>
              </a:rPr>
              <a:t>Назвать предметы, имеющие вид круга, окружности</a:t>
            </a:r>
            <a:r>
              <a:rPr b="1" i="1" lang="en-US" sz="3200" spc="-1" strike="noStrike">
                <a:solidFill>
                  <a:srgbClr val="703d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0" y="2637000"/>
            <a:ext cx="75708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2843280" y="2133720"/>
            <a:ext cx="1171440" cy="90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 rot="20289600">
            <a:off x="1908000" y="4869000"/>
            <a:ext cx="1214640" cy="121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4"/>
          <a:stretch/>
        </p:blipFill>
        <p:spPr>
          <a:xfrm>
            <a:off x="4140360" y="2852640"/>
            <a:ext cx="227808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1968480" cy="1571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6"/>
          <a:stretch/>
        </p:blipFill>
        <p:spPr>
          <a:xfrm>
            <a:off x="611280" y="3500280"/>
            <a:ext cx="1525320" cy="15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981000" cy="904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8"/>
          <a:stretch/>
        </p:blipFill>
        <p:spPr>
          <a:xfrm>
            <a:off x="6659640" y="2205000"/>
            <a:ext cx="1500120" cy="112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6804000" y="4221000"/>
            <a:ext cx="14288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11"/>
          <p:cNvSpPr/>
          <p:nvPr/>
        </p:nvSpPr>
        <p:spPr>
          <a:xfrm>
            <a:off x="755640" y="3068640"/>
            <a:ext cx="2232000" cy="2160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627280" y="4292640"/>
            <a:ext cx="2376360" cy="2232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Oval 17"/>
          <p:cNvSpPr/>
          <p:nvPr/>
        </p:nvSpPr>
        <p:spPr>
          <a:xfrm>
            <a:off x="4714920" y="3143160"/>
            <a:ext cx="2303280" cy="2158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1763640" y="1197000"/>
            <a:ext cx="2303640" cy="2087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579"/>
                </a:solidFill>
                <a:latin typeface="Times New Roman"/>
              </a:rPr>
              <a:t>Умники 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57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b2579"/>
                </a:solidFill>
                <a:latin typeface="Times New Roman"/>
              </a:rPr>
              <a:t>умницы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4067280" y="1197000"/>
            <a:ext cx="2232000" cy="2016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579"/>
                </a:solidFill>
                <a:latin typeface="Times New Roman"/>
              </a:rPr>
              <a:t>Открытия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9" name="Picture 4" descr="ANTN069"/>
          <p:cNvPicPr/>
          <p:nvPr/>
        </p:nvPicPr>
        <p:blipFill>
          <a:blip r:embed="rId1"/>
          <a:stretch/>
        </p:blipFill>
        <p:spPr>
          <a:xfrm>
            <a:off x="3276720" y="2781360"/>
            <a:ext cx="1582560" cy="1466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4284720" y="3933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579"/>
                </a:solidFill>
                <a:latin typeface="Times New Roman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755640" y="4365720"/>
            <a:ext cx="180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755640" y="3716280"/>
            <a:ext cx="208908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579"/>
                </a:solidFill>
                <a:latin typeface="Times New Roman"/>
              </a:rPr>
              <a:t>Привал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2916360" y="5157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2579"/>
                </a:solidFill>
                <a:latin typeface="Times New Roman"/>
              </a:rPr>
              <a:t>Знайк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WordArt 26"/>
          <p:cNvSpPr txBox="1"/>
          <p:nvPr/>
        </p:nvSpPr>
        <p:spPr>
          <a:xfrm>
            <a:off x="1187280" y="404640"/>
            <a:ext cx="618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аршрут путешеств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6888240" cy="1428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2579"/>
                </a:solidFill>
                <a:latin typeface="Times New Roman"/>
              </a:rPr>
              <a:t>Заполни  пропуск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82480" y="1999800"/>
            <a:ext cx="8561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Окружность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фигура, состоящая из множества . . . плоскости, равноудаленных от . . . 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Радиус окружност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отрезок, соединяющий . . . окружности с любой . . . окруж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121428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6870600" cy="1357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r>
              <a:rPr b="1" lang="en-US" sz="3600" spc="-1" strike="noStrike">
                <a:solidFill>
                  <a:srgbClr val="2b2579"/>
                </a:solidFill>
                <a:latin typeface="Times New Roman"/>
              </a:rPr>
              <a:t>Заполни  пропуск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680" y="135684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Хорда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это . . . , соединяющий любые две . . .  окруж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Диаметр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– это . . ., проходящая через . . .  окруж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6858000" y="4429080"/>
            <a:ext cx="1542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азови радиус, хорду, диамет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26560" y="1916280"/>
            <a:ext cx="7525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6351480" cy="3784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0" y="4429080"/>
            <a:ext cx="1542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124000" y="2276640"/>
            <a:ext cx="5094360" cy="1068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Arial"/>
              </a:rPr>
              <a:t>Это удивительное число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8" descr="17"/>
          <p:cNvPicPr/>
          <p:nvPr/>
        </p:nvPicPr>
        <p:blipFill>
          <a:blip r:embed="rId1"/>
          <a:stretch/>
        </p:blipFill>
        <p:spPr>
          <a:xfrm>
            <a:off x="3564000" y="404640"/>
            <a:ext cx="2303280" cy="172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5143680" y="3714840"/>
            <a:ext cx="2657160" cy="2584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1428840" y="3357720"/>
            <a:ext cx="28004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1857240" y="357120"/>
            <a:ext cx="514368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и числу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071720" y="1285920"/>
            <a:ext cx="2736720" cy="2190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1857240" y="3429000"/>
            <a:ext cx="3168720" cy="2370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5143680" y="1357200"/>
            <a:ext cx="25002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8:47:53Z</dcterms:created>
  <dc:creator>Володкина</dc:creator>
  <dc:description/>
  <dc:language>en-US</dc:language>
  <cp:lastModifiedBy>RAbramova</cp:lastModifiedBy>
  <dcterms:modified xsi:type="dcterms:W3CDTF">2017-02-17T09:43:07Z</dcterms:modified>
  <cp:revision>35</cp:revision>
  <dc:subject/>
  <dc:title>Круг. Площадь круга.</dc:title>
</cp:coreProperties>
</file>